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CC4D-889D-47AC-BA9E-5FBA8D672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9DF6-2FED-4A91-8BC9-9B85F608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4F14-28C5-4905-85E4-ABF768F53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6BB7-0532-46DA-8B18-1E1CF5707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29F7-B0AA-4582-B58F-1E2829F62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A9CD-8310-4623-8DCC-FABF43B9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B5FD-1CF0-4FB1-96DB-52550EC6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ADED-C146-47E0-8480-D1D1B6FB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41ED-A7D5-4A21-BFEB-C8CB92CC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E25A-C176-45FD-9837-DDCF536C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447E-856B-4CC4-8286-D0CDDFB8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18B9-75C8-48DF-BA3D-EE5D6141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2CF5-6930-4A8D-B641-85720EDE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3268-7359-49CD-ADE5-44986D01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D1C3-35D5-429D-B7BC-A7AAA958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F55F-3561-4758-B89A-F325A2526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5BA17-35EE-4158-81FA-F9C5F49F7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55C1-D572-4A46-AE8E-D81043E6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EE1C-2DEA-4CE2-AD03-CF6ED7D1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97CD-C223-4589-A92C-5D7ABB5E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7477-7375-4AD4-9B5E-A0BEB0F4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A409-229F-4D6B-BC65-73685C74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21F8-C225-4E6A-9F6C-61A47541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DE8A-466A-4045-8EFA-F1C7AB3D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0430-6215-4AB1-8162-2EBC553EEC8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DCAD-BB60-4A87-9510-43221BF9D92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mponents of the PERT Repor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ends in a company’s performa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undamentals – Sales, Pre-Tax Profit, EP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urrent Value Assessment of the stoc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/E,  RV, US/DS, &amp; PE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vidend and Yiel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SG must have current price, data, &amp; judg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rcRect l="5882" t="13675" r="3529" b="9402"/>
          <a:stretch/>
        </p:blipFill>
        <p:spPr>
          <a:xfrm>
            <a:off x="1981080" y="-411120"/>
            <a:ext cx="6220080" cy="72691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666880" y="304920"/>
            <a:ext cx="2362320" cy="554400"/>
          </a:xfrm>
          <a:prstGeom prst="rect">
            <a:avLst/>
          </a:prstGeom>
          <a:solidFill>
            <a:srgbClr val="0c0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Fundament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Front of SS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304920"/>
            <a:ext cx="2057400" cy="554400"/>
          </a:xfrm>
          <a:prstGeom prst="rect">
            <a:avLst/>
          </a:prstGeom>
          <a:solidFill>
            <a:srgbClr val="0c0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Buy Price &amp; Ri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Back of SS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rcRect l="7059" t="10256" r="3529" b="7692"/>
          <a:stretch/>
        </p:blipFill>
        <p:spPr>
          <a:xfrm>
            <a:off x="1295280" y="-1295280"/>
            <a:ext cx="6999480" cy="88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14400" y="-2286000"/>
            <a:ext cx="7772400" cy="1069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85800" y="-2286000"/>
            <a:ext cx="7772400" cy="1069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5800" y="-2286000"/>
            <a:ext cx="7772400" cy="1069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62120" y="-2133720"/>
            <a:ext cx="7772400" cy="1069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914400" y="-2286000"/>
            <a:ext cx="7772400" cy="1069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>
            <a:lum bright="4000"/>
          </a:blip>
          <a:srcRect l="5882" t="13675" r="4706" b="29915"/>
          <a:stretch/>
        </p:blipFill>
        <p:spPr>
          <a:xfrm rot="493200">
            <a:off x="1218960" y="380520"/>
            <a:ext cx="6948360" cy="603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20:07:49Z</dcterms:created>
  <dc:creator>Gary Simms</dc:creator>
  <dc:description/>
  <dc:language>en-US</dc:language>
  <cp:lastModifiedBy>rmann</cp:lastModifiedBy>
  <dcterms:modified xsi:type="dcterms:W3CDTF">2005-01-21T20:20:10Z</dcterms:modified>
  <cp:revision>5</cp:revision>
  <dc:subject/>
  <dc:title>Slide 1</dc:title>
</cp:coreProperties>
</file>