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29.jpeg" ContentType="image/jpeg"/>
  <Override PartName="/ppt/media/image3.gif" ContentType="image/gif"/>
  <Override PartName="/ppt/media/image6.png" ContentType="image/png"/>
  <Override PartName="/ppt/media/image28.jpeg" ContentType="image/jpeg"/>
  <Override PartName="/ppt/media/image7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8.png" ContentType="image/png"/>
  <Override PartName="/ppt/media/image14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1.wmf" ContentType="image/x-wmf"/>
  <Override PartName="/ppt/media/image17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A8C-4ABF-4DE0-B8A7-DDBCD9B0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4E1-A78F-4BC1-AAD2-06A1201F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046-F728-48DA-9023-6595F5E4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B74-E81E-4096-9229-7886F338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31AA-5F4B-4FDD-8136-70945545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AB2B-DF9E-4E1B-ABDA-589D50B7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7FCA-B31B-4C69-BBAF-546FA5DC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280F-9EBC-42C1-B278-EE17F796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3A6A-49BD-4EFC-94FD-FD2CF3EB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3AE4-3402-4C0F-965C-B089C136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BF70-B46D-4535-9B2B-67B36AF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EB4-B83A-4955-B4B6-48305302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61BC-4F9B-435D-BD42-C30C7BE3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0F97-22FF-4000-A0CF-B0D6C0DF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41A3-D3CD-4F43-A3C0-455CEBEC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66A7-B81C-4796-843D-FB4C3BEA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D79E-C7A3-4869-8E23-31BFF3EB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C9E-4395-4D5B-BD9A-FDBCE212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B73-E4FE-4FA5-AE05-794D138B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BD2-E444-401E-AF46-D4B7ACF6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126-279D-4029-8A6B-6F89A1C9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1DA-A5F9-4B4F-BE2C-180E8EFC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D3A-C76F-4303-86AC-5E7E199F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EC3-9451-4B34-AE86-D49CF89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4843-ADD1-4344-9A4C-7949D9A2A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" descr=""/>
          <p:cNvPicPr/>
          <p:nvPr/>
        </p:nvPicPr>
        <p:blipFill>
          <a:blip r:embed="rId3"/>
          <a:stretch/>
        </p:blipFill>
        <p:spPr>
          <a:xfrm>
            <a:off x="7570800" y="0"/>
            <a:ext cx="1573200" cy="164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1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A054-FC7F-4A2B-BCD5-2937AFBFC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Portfolio Management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Workshop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9 Online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Ellis Tra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1268640" cy="1447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467480" y="4800600"/>
            <a:ext cx="1406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Real Life Examp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5280" y="1262160"/>
            <a:ext cx="624852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is portfolio assumes you have used the SSG to chose stocks with “Monotonous Growth”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t further assumes you have not done anything sinc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4640" y="1979640"/>
            <a:ext cx="3048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me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835520" cy="6248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3085920" cy="269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867280" y="1979640"/>
            <a:ext cx="327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is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505400" cy="5867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085920" cy="269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638320" y="1446120"/>
            <a:ext cx="3124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ayton Ho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729320" cy="6172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486400" y="3276720"/>
            <a:ext cx="3086280" cy="269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562360" y="1675440"/>
            <a:ext cx="3276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rc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574880" cy="5943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3086280" cy="269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43240" y="1674720"/>
            <a:ext cx="2895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orest Lab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6400" y="304920"/>
            <a:ext cx="4929480" cy="6400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38080" y="2819520"/>
            <a:ext cx="2133720" cy="4597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oton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62120" y="3200400"/>
            <a:ext cx="457200" cy="144792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3200400"/>
            <a:ext cx="228600" cy="45720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2362320"/>
            <a:ext cx="1600200" cy="4597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op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428640" y="2743200"/>
            <a:ext cx="685800" cy="175248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085920" cy="269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1232280"/>
            <a:ext cx="777240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You should be seeing problems in the SSG’s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orest Labs used to be a monotonous grower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M would have caught this long ago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0952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RTFIOLIO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ANAG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 portfolio of QUALITY stocks that doubles in value every 5 years - 15% CAG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very stock must return 15%, but the overall average should be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sify across Sectors and Size of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have to own all sectors – e.g. ut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L   &lt;5M-5B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 to 20 stocks – Sweet 16 +/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you can fol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ad the Original at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old.better-investing.org/educate/portmgt/pm1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rtfolio Manag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latoon Gam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Five .. Catch the bad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sification .. Overgrowth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 in profits from grossly over valued st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et the Play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 Workshee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 Worksheet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 Trend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 Summary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507960"/>
            <a:ext cx="6076800" cy="6350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638680" y="2666880"/>
            <a:ext cx="2895840" cy="1067040"/>
          </a:xfrm>
          <a:prstGeom prst="rect">
            <a:avLst/>
          </a:prstGeom>
          <a:solidFill>
            <a:srgbClr val="000044"/>
          </a:soli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ck Profit Mar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ck RV &lt; 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981080" y="2666880"/>
            <a:ext cx="365760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pdate Data &amp; Pr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with OP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monthly fo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quarterly for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dify SSG Judg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a copy of your original S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:  Save as… msft-o.ss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y previous judgments if conditions have changed and warran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ERT Defensive El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76720" y="3962520"/>
            <a:ext cx="4190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4114800"/>
            <a:ext cx="8380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rowth Benchmar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n from your estimate of eps growth on side one of the SS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we limit eps growth to no more than sales growth, use as benchmark for sales, PTP, &amp; e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lph Seger recommends using analyst’s one year growth rates which can be entered in the ToolKit data entry b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Do I Look For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k by PreTax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grow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ined from last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ine with your projection with eps grow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lines are not trivial - Top Line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Tax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% change with eps grow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asy to hide problems here vs. 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Q/Q &amp; TTM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to Estimated eps grow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8054" t="0" r="4832" b="0"/>
          <a:stretch/>
        </p:blipFill>
        <p:spPr>
          <a:xfrm>
            <a:off x="838080" y="762120"/>
            <a:ext cx="6969240" cy="5475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581280" y="3352680"/>
            <a:ext cx="914400" cy="30492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4267080"/>
            <a:ext cx="30456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4724280"/>
            <a:ext cx="30456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5638680"/>
            <a:ext cx="30456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6095880"/>
            <a:ext cx="30456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44956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49528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54100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58672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01000" y="3581280"/>
            <a:ext cx="1143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y did we buy such a slow growe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a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 are “TOP LINE GROWT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ing sales can mean maturing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else (PTP &amp; eps)comes from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ing sales means slowing PTP and E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ggested Reading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IC Official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Stock, the book, by Ellis Tra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kit 4.0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rcRect l="18825" t="0" r="0" b="28208"/>
          <a:stretch/>
        </p:blipFill>
        <p:spPr>
          <a:xfrm>
            <a:off x="4419720" y="4267080"/>
            <a:ext cx="1439640" cy="198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943600" y="2895480"/>
            <a:ext cx="1581120" cy="1981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rcRect l="28238" t="0" r="0" b="25644"/>
          <a:stretch/>
        </p:blipFill>
        <p:spPr>
          <a:xfrm>
            <a:off x="7648560" y="1600200"/>
            <a:ext cx="1495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8054" t="0" r="4832" b="0"/>
          <a:stretch/>
        </p:blipFill>
        <p:spPr>
          <a:xfrm>
            <a:off x="838080" y="762120"/>
            <a:ext cx="6969240" cy="5475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495680" y="3352680"/>
            <a:ext cx="1447920" cy="30492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42670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724280"/>
            <a:ext cx="30456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5181480"/>
            <a:ext cx="30456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5638680"/>
            <a:ext cx="30456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6095880"/>
            <a:ext cx="30456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44956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49528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54100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58672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-Tax Profi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can show up here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hard to hide problems 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manipulate taxes and # of shares to help eps, but not P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s here with growing sales means shrinking profit margins and problems with management’s handling of expenses. Section 2A S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8054" t="0" r="4832" b="0"/>
          <a:stretch/>
        </p:blipFill>
        <p:spPr>
          <a:xfrm>
            <a:off x="838080" y="762120"/>
            <a:ext cx="6969240" cy="54752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715000" y="3276720"/>
            <a:ext cx="1143000" cy="38088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4724280"/>
            <a:ext cx="30492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5181480"/>
            <a:ext cx="30492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5638680"/>
            <a:ext cx="30492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44956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49528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54100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5867280"/>
            <a:ext cx="304560" cy="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352680"/>
            <a:ext cx="1143000" cy="30492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4267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4648320"/>
            <a:ext cx="30492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181480"/>
            <a:ext cx="30492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5638680"/>
            <a:ext cx="30492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38280" y="6095880"/>
            <a:ext cx="304920" cy="0"/>
          </a:xfrm>
          <a:prstGeom prst="line">
            <a:avLst/>
          </a:prstGeom>
          <a:ln w="3816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PS – The Bottom 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ales and PTP are OK and eps declines, look for changes in taxes or sh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the stock’s price generally follows the EPS, but eps can’t grow faster than sales and PTP for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arbinger - R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ter: A person or thing that comes before to announce what fol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he Relativ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t is below 85, ask your self: What does the market knows that I don’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investors unwilling to pay their historical price for a dollar of the company’s earning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fundamental reas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You Have a Red Flag!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en to Sell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ant or need th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ock is grossly over val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ts of risk – little potential re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ification – Rebalance Portfol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amentals have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ining profit mar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iorating financ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gle product becoming obso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because of economic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oming cycl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oblems with the Fundament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653320" cy="1933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04920" y="3886200"/>
            <a:ext cx="1828800" cy="1066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01000" y="3962520"/>
            <a:ext cx="7621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68880"/>
            <a:ext cx="77724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d Quarters are like cockroaches.. You seldom find just on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ut cockroaches hide so how do you find them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ERT Trend Re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81680" cy="4848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4724280"/>
            <a:ext cx="23623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604880"/>
            <a:ext cx="777240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So What’s Up</a:t>
            </a:r>
            <a:br>
              <a:rPr sz="7200"/>
            </a:b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With Forrest Labs?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rtfolio Manag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M begins with stock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NAIC PM tools assumes you have selected stocks with the SS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a new SSG for any stock in the portfolio if you are not 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l is in the Detail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ERT Workshee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173480" cy="4876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715000" y="2209680"/>
            <a:ext cx="27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the left side of the form, the % changes are recorded for each quarter as compared with the same quarter the year before. As you can see the numbers are all over the lot on the left s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l is in the Detail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ERT Worksheet 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2655720" cy="49528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2280" y="1981080"/>
            <a:ext cx="5562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the right side of the form you will find the sum of the trailing four quarters, for each quarter and the % change between that and the same period the year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nds are easier to identify because the data is smoothed by using the moving sum of the trailing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st has seen bad times. Sales began to decline 1Q 96 and only within the last 5 quarters have they picked up again. You’ll see this clearly on the graph we’ll discuss n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7200" y="901800"/>
            <a:ext cx="7010280" cy="5956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743200" y="1828800"/>
            <a:ext cx="1600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3352680"/>
            <a:ext cx="1828800" cy="36828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e the dec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267080"/>
            <a:ext cx="1676520" cy="36828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e the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114800" y="3505320"/>
            <a:ext cx="533520" cy="990360"/>
          </a:xfrm>
          <a:prstGeom prst="line">
            <a:avLst/>
          </a:prstGeom>
          <a:ln w="38160">
            <a:solidFill>
              <a:srgbClr val="0000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086600" cy="5973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895480" y="1066680"/>
            <a:ext cx="198144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1905120"/>
            <a:ext cx="3276360" cy="155700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ain, see the decline and then increase, smoothed with the rolling 4 quarter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o Ya Gonna Call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he web by clicking the little blue “W” button and going to the company’s web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881600" y="3429000"/>
            <a:ext cx="4262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Mor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were minding the store as you are now, you would have been out of it long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’re still in it, you probably shouldn’t b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 Forest Labs! (Remember this was 199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fense &amp; Offens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is urgent. If you don’t take action you can get hu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nsive is less likely to involve pain from not taking action, but is an important part of portfolio management if you are to be a win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ffensive Manag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ty from Challenge Tree chapter NAIC Official Guide: Starting and Running a Profitable Investment Clu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find a stock has passed the point where it has greater risk than reward, replace it with one of equal or better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can’t find a company that meets those criteria – 3:1 US/DS, 15% TR-  consider putting 20% of the most speculative part of the portfolio into good quality bonds. Wait until the market makes stocks attractive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ffense with PE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44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 has a dual function. We’ve already seen its function of monitoring recent fundamentals.  Now we’ll look at the left side which deals with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as we observed with the SSG, NEVER consider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al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il you are sure you have a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oc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ffense with PE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44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the worse  a stock performs, the better value it appears to be. Don’t buy junk at any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’ve already checked quality with the SSG and PERT &amp; PERT Worksheet A at this point and sold Forest La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onto valuation for the other fou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61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SSG Overview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 Two PROGRESSIVE questions of your candi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is a QUALITY Company (Quality = Growth + Effici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owth in the Visual analysis, sectio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ward trending, smooth, parallel data 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wth appropriate for company 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nt growth in line with historic grow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iency in Section 2 (Return on sales and equ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ven or up trends in sections 2A &amp; 2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s at or above industry/peer aver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, AND ONLY IF this is a QUALITY company, is the current price at a level we have a fair chance of doubling our money in 5 years with minimal risk?  (Risk vs. Reward) B.U.R.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the “B.uy Zone”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.pside/downside ratio 3:1 or more e.g. 4:1, 5: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.elative Value 85% to 1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wa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.otal Return 15% compounded  -  Doubles money in 5 ye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570800" y="0"/>
            <a:ext cx="15732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ffense with PE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375080" y="1752480"/>
            <a:ext cx="476892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28600" y="2666880"/>
            <a:ext cx="3886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ight side deals with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interested in RV, US/DS ratio, &amp; compounded rate of retu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4267080"/>
            <a:ext cx="457200" cy="30492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153280" y="4191120"/>
            <a:ext cx="381240" cy="38088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534520" y="4114800"/>
            <a:ext cx="609480" cy="60948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Offends m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V &gt; 1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/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 1:1  e.g. 0.3:1 or -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Return or PAR &lt;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lative Valu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030400" cy="4647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57200" y="22860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160020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looking at the fundamentals, only Forest Labs revealed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pecting RV shows only Clayton homes near our RV zone of 85 to 150%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ove 150% suggests we should consider selling, at least, a portion of the holding. Below 85% suggests we should re examine the fundamentals for something mis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omet approaches the 150% line and the others are well over the 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8001000" y="3505320"/>
            <a:ext cx="457200" cy="0"/>
          </a:xfrm>
          <a:prstGeom prst="line">
            <a:avLst/>
          </a:prstGeom>
          <a:ln w="7632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8001000" y="4191120"/>
            <a:ext cx="457200" cy="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001000" y="495288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72200" y="2971800"/>
            <a:ext cx="1600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162920" y="1981080"/>
            <a:ext cx="761760" cy="60984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Risk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&amp; Rewar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2703600" cy="45338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80880" y="2286000"/>
            <a:ext cx="48006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ng a couple of columns to the right, Clayton Homes is the only holding with more potential reward than risk. (US/DS &gt; 1: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omet &amp; Merck have an US/DS of 0.3:1 or the reverse of 3:1. …3 times the risk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s to ga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sco is at -0.0 tells us the current price is above the forecast 5 year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29400" y="2286000"/>
            <a:ext cx="685800" cy="68580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086600" y="472428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086600" y="54864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162920" y="609588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162920" y="4038480"/>
            <a:ext cx="457200" cy="0"/>
          </a:xfrm>
          <a:prstGeom prst="line">
            <a:avLst/>
          </a:prstGeom>
          <a:ln w="7632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3352680"/>
            <a:ext cx="22100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isk &amp; 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Rewar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2703600" cy="4533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80880" y="22860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86600" y="2133720"/>
            <a:ext cx="1143000" cy="914400"/>
          </a:xfrm>
          <a:prstGeom prst="ellipse">
            <a:avLst/>
          </a:prstGeom>
          <a:noFill/>
          <a:ln w="381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001000" y="449568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001000" y="52578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924680" y="5943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924680" y="3809880"/>
            <a:ext cx="457200" cy="0"/>
          </a:xfrm>
          <a:prstGeom prst="line">
            <a:avLst/>
          </a:prstGeom>
          <a:ln w="76320">
            <a:solidFill>
              <a:srgbClr val="29cf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3352680"/>
            <a:ext cx="22100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0880" y="1905120"/>
            <a:ext cx="45720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Clayton Homes is above the 15% area we look f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omet &amp; Merck , although great companies, have limited upside potential with 3.5% &amp; 5% res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Cisco were priced at your estimated high price in five years, you would LOSE mone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ttom three need serious offensive considera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Will You Do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xt step depends on the cost of tr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is is in a tax deferred account with $12 trades there would be little question of replacing Biomet &amp; Me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sell Cisco outright because we could make more in a money market with little or no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ther accounts trading costs and taxes must be factored into the dec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halleng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2743200" y="2023920"/>
            <a:ext cx="6400800" cy="48340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28600" y="2133720"/>
            <a:ext cx="22860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allenger aids you in making this deci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has two vie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s the first, the numerical vi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s you compare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halleng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590920" y="1995480"/>
            <a:ext cx="6553080" cy="4862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28600" y="2133720"/>
            <a:ext cx="2286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s the second, the graphical vi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the lines cross is the projected “break even” po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ess time to break even, the better the deci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uideli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book, Take Stock, by Ellis Tra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763120" cy="32288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676520" y="3581280"/>
            <a:ext cx="1066680" cy="4597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/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4114800"/>
            <a:ext cx="76176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Times New Roman"/>
              </a:rPr>
              <a:t>&gt; 1: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Times New Roman"/>
              </a:rPr>
              <a:t>1:1 -0.3: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Times New Roman"/>
              </a:rPr>
              <a:t>&lt;0.3: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Times New Roman"/>
              </a:rPr>
              <a:t>&lt;0.3: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ercentage of Portfoli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125960" cy="4800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1471680"/>
            <a:ext cx="44197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reason to sell was to protect divers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should own between 12 and 20 stocks –( Sweet 16 + or - 4) so no stock should be more than 5% to 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is 5 stock example, 20% is the ma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can see that even IF Cisco and Merck had significant return potential, they have become such a large percentage, some should be s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rbed Wire Fen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ONLY ask the valuation question IF the answer is YES to the quality question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buy junk at any price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se a stock performs, the better value it appears to b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, Always buy quality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857960"/>
            <a:ext cx="91440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NAIC</a:t>
            </a:r>
            <a:br>
              <a:rPr sz="7200"/>
            </a:b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The Big Picture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657600" y="304920"/>
            <a:ext cx="182880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e of Stoc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1828800"/>
            <a:ext cx="220968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T Workshee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3048120"/>
            <a:ext cx="228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,  Value - Bu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3048120"/>
            <a:ext cx="2971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, NON Value Watch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72200" y="3048120"/>
            <a:ext cx="2286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Quality, Disc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57600" y="1066680"/>
            <a:ext cx="182880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IC Prosp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33920" y="388620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480060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fol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480060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nce P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5943600"/>
            <a:ext cx="3124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folio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Purchases &amp; Pounce P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60948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13716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438280"/>
            <a:ext cx="0" cy="533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828800" y="2438280"/>
            <a:ext cx="2819520" cy="533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48320" y="2438280"/>
            <a:ext cx="2666880" cy="533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3352680"/>
            <a:ext cx="0" cy="1295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5029200"/>
            <a:ext cx="68580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34290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48320" y="4267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48320" y="5105520"/>
            <a:ext cx="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581280" y="2057400"/>
            <a:ext cx="243864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t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T Trend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T Workshee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3352680"/>
            <a:ext cx="228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48520" y="3352680"/>
            <a:ext cx="228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990720"/>
            <a:ext cx="2743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thly price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rterly Data &amp; Jud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00800" y="4191120"/>
            <a:ext cx="22096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igate w/ 10Q,10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 news 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0"/>
            <a:ext cx="26672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folio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purchases &amp; pounce p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0" y="5334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rary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 evaluate next quar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5410080"/>
            <a:ext cx="7621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57600" y="6172200"/>
            <a:ext cx="228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8915400" y="914040"/>
            <a:ext cx="0" cy="4267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181480" y="838080"/>
            <a:ext cx="37339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24280" y="3733920"/>
            <a:ext cx="0" cy="22096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2971800"/>
            <a:ext cx="0" cy="2286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2895480"/>
            <a:ext cx="243864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91520" y="36576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476760" y="4800600"/>
            <a:ext cx="990360" cy="5335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72400" y="48006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24280" y="16765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762120"/>
            <a:ext cx="0" cy="152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95480" y="228600"/>
            <a:ext cx="3124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folio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Purchases &amp; Pounce P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1447920"/>
            <a:ext cx="2361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ation of Quality Stocks with P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2362320"/>
            <a:ext cx="175248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V, US/DS, T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5105520"/>
            <a:ext cx="685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5562720"/>
            <a:ext cx="9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34120" y="3581280"/>
            <a:ext cx="19047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V &gt;150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/DS &lt; 1:1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 &lt;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6216480"/>
            <a:ext cx="2361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portunity to add to pos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5562720"/>
            <a:ext cx="2361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ensiv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6491160"/>
            <a:ext cx="1752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19720" y="2057400"/>
            <a:ext cx="0" cy="2286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971440" y="3048120"/>
            <a:ext cx="76212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3048120"/>
            <a:ext cx="914400" cy="3808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90920" y="5486400"/>
            <a:ext cx="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3809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00800" y="601992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28800" y="3581280"/>
            <a:ext cx="167652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V 85 – 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/DS &gt; 3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 ~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38680" y="4952880"/>
            <a:ext cx="1447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L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81280" y="3581280"/>
            <a:ext cx="1676520" cy="147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V 85 – 1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/DS             &gt;1:1,&lt; 3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 ~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46483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502920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47242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00800" y="51814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022120"/>
            <a:ext cx="777240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Arial Black"/>
              </a:rPr>
              <a:t>The End!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28400"/>
            <a:ext cx="777240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What does QUALITY </a:t>
            </a:r>
            <a:br>
              <a:rPr sz="8000"/>
            </a:b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look like?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88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rowth Stocks Visual Analysi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ook for This!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057400"/>
            <a:ext cx="17528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st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ward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all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4724280" cy="412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Not This…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752480"/>
            <a:ext cx="1676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wnward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n Sm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n Parall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886" r="0" b="0"/>
          <a:stretch/>
        </p:blipFill>
        <p:spPr>
          <a:xfrm>
            <a:off x="2743200" y="2057400"/>
            <a:ext cx="4508640" cy="39495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7:22:02Z</dcterms:created>
  <dc:creator>Gary Simms</dc:creator>
  <dc:description/>
  <dc:language>en-US</dc:language>
  <cp:lastModifiedBy>Gary Simms</cp:lastModifiedBy>
  <dcterms:modified xsi:type="dcterms:W3CDTF">2005-01-28T04:49:02Z</dcterms:modified>
  <cp:revision>39</cp:revision>
  <dc:subject/>
  <dc:title>Portfolio Management with ToolKit</dc:title>
</cp:coreProperties>
</file>